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8EA-49D8-4BD7-8517-0D79C5AE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CA4-E8AA-44C7-8CC8-3EDA79F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7C6-183F-4EED-A7DA-1B94A7BD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A3E-9B11-409A-82DE-00E0FB5B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7477-9D36-4EE9-B39D-72337EBB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2BE4-A190-4B48-9F40-6BD320E6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698F-E8A1-4DEF-A63B-5C2F62AD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A405-2B02-427A-B18E-21B02F48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8F5D-95E2-456B-B14B-85930C7E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6914-C595-4A17-8781-C975FFDC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8129-CD37-4F91-A77C-8950DC19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CA7-645D-4D8A-90B9-C1BEDEC6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D52E-4172-4B68-94F7-86312C3F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CD01-1A4F-47CE-960E-01A87291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2DDB-ED46-46CC-82EF-12A56547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B380-2DDA-4C43-809A-F62E54B8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29A2-041F-449E-8EF0-2696B22C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4B7-CF75-4FEE-8AD5-1424368D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B83-7CFD-4A87-9BCB-4CCBD361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3FA-6E64-42CA-B4AE-E8F04512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177-3F7A-4EEE-B6F3-BEA3C5E1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B4F-8620-4DA0-84EF-523622AF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42B-D4E8-486F-9B18-C8E9169F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E90-290F-4478-8E5A-CEBB54DA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F039-2534-4959-9E87-29C363257B8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7DFE-3319-4CAE-B23B-02A793F7666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81200" y="566640"/>
            <a:ext cx="7783200" cy="1884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ристианство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 мировая религия.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тверждение догматики и культ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3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242560" cy="86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вол вер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кое изложение основных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гматов христианства, состоящее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12 пун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гма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ение не подлежащее измене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714240"/>
          <a:ext cx="8229600" cy="549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8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ши ассоциации с изучаемой темой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ристианство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Л НА УРО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0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исус Христ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ангел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хий За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й За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вед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Христианство как мировая религия. Утверждение догматики и культ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 ве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ленский соб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м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превращения христианства в мировую религи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На тему «Христианство» составить СИНКВЕЙН.                                                                                                 2. Подготовиться к обобщающему уроку по теме «Христианств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523880" y="1397160"/>
          <a:ext cx="6096240" cy="4010040"/>
        </p:xfrm>
        <a:graphic>
          <a:graphicData uri="http://schemas.openxmlformats.org/drawingml/2006/table">
            <a:tbl>
              <a:tblPr/>
              <a:tblGrid>
                <a:gridCol w="2032200"/>
                <a:gridCol w="1015920"/>
                <a:gridCol w="30481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писк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  Краткое изложение основных догма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л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, не подлежащее измен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Догм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единенное жилище»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иак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тарейшины» общ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иря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 должностное лицо в религиозной иерарх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онастыр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 верующ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имвол вер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помогающие пресвитерам выполнять богослужебные ритуал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Пресвит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щеннослуж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1"/>
          <p:cNvSpPr/>
          <p:nvPr/>
        </p:nvSpPr>
        <p:spPr>
          <a:xfrm>
            <a:off x="2092680" y="74880"/>
            <a:ext cx="49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: СООТНЕСИТЕ ТЕРМИНЫ С ИХ ЗНАЧЕНИ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машнего зад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                                         2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учителя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ристианство как мировая религия. Утверждение догматики и куль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                                                                                                                                      3. Домашнее 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На тему «Христианство» составить СИНКВЕЙН.                                                                                                 2. Подготовиться к обобщающему уроку по теме «Христианств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71760" y="2214720"/>
          <a:ext cx="6095880" cy="37544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Л НА УРО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00044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8" descr=""/>
          <p:cNvPicPr/>
          <p:nvPr/>
        </p:nvPicPr>
        <p:blipFill>
          <a:blip r:embed="rId2"/>
          <a:stretch/>
        </p:blipFill>
        <p:spPr>
          <a:xfrm>
            <a:off x="480960" y="622440"/>
            <a:ext cx="826632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1714680" y="-55440"/>
            <a:ext cx="5643360" cy="6913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9288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-103320" y="0"/>
            <a:ext cx="934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3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0" y="1143000"/>
            <a:ext cx="64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свитер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«старейшины» общ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0" y="1571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ко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греч. «прислужники»)- люди, помогающие пресвитерам выполнять богослужебные ритуа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0" y="2428920"/>
            <a:ext cx="11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писко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букв. : «надзиратель») – высшее должностное лиц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0" y="285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ополи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греч. «человек из главного города») – епископы главных городов провинций, за которыми закрепилось право назначать других епископ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0" y="3857760"/>
            <a:ext cx="51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ян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стые верующ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0" y="43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греч. «жребий», что может означать особое апостольское призвание, которое дано не каждому) - священнослужит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0" y="500076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ерарх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букв. с греч. – «священная власть»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0" y="5357880"/>
            <a:ext cx="52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т греч. монос) – од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0" y="578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настыр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от греч. монос – один; букв. «уединенное жилище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6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68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76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72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88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852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956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71760" y="0"/>
            <a:ext cx="61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1571760" y="0"/>
            <a:ext cx="6072120" cy="685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1428840" y="0"/>
            <a:ext cx="62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71 -0.01042 L -0.26771 -0.01042 E">
                                      <p:cBhvr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28760" y="714240"/>
          <a:ext cx="8072280" cy="5851800"/>
        </p:xfrm>
        <a:graphic>
          <a:graphicData uri="http://schemas.openxmlformats.org/drawingml/2006/table">
            <a:tbl>
              <a:tblPr/>
              <a:tblGrid>
                <a:gridCol w="2714400"/>
                <a:gridCol w="5357880"/>
              </a:tblGrid>
              <a:tr h="80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а в единого рожденного от Бога-Отца и пришедшего на землю ради спасения всех людей;                                                                                                                  вера в  то, что Христос умер мученической смертью, как человек, принявший страдания за всех людей;                                                                                      вера в  то, что он воскрес на третий день, а затем вознесся на небеса;                         вера в то, что Христос придет на землю во второй раз, чтобы судить живых и мертвых, которые воскреснут, и т.д..                                                                     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Верую во Единаго Бога Отца, Вседержателя, Творца небу и земли, видимым же всем и невидим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И во Единаго Иисуса Христа, Сына Божия Единороднаго, Иже отОтца рожденнаго прежде всех век. Света от Света, Бога истинна от Бога истинна, рожденна, несотворенна, единосущна Отцу, Им же вся быш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Нас ради человек и нашего ради спасения сшедшаго с небес и воплотившагося от Духа Свята и Марии Девы и вочеловечша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Распятаго же при Понтийстем Пилате, и страдавша, и погребенн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И воскресшаго в третий день по Писание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И возшедшаго на небеса, и седяща одесную Отц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И паки грядущаго со славою судити живым и мертвым, Его же Царствию не будет конц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И в Духа Святаго, Господа Животворящаго, Иже от Отца исходящаго, Иже со Отцем и Сыном споклоняема и сславима, глаголашаго проро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 Во едину Святую, Соборную и Апостольскую Церков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Исповедую едино крещение во оставление грех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 Чаю воскресения мертвых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 И жизни будущаго. Амин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0:14Z</dcterms:created>
  <dc:creator>Admin</dc:creator>
  <dc:description/>
  <dc:language>en-US</dc:language>
  <cp:lastModifiedBy>Admin</cp:lastModifiedBy>
  <dcterms:modified xsi:type="dcterms:W3CDTF">2011-04-20T12:17:49Z</dcterms:modified>
  <cp:revision>133</cp:revision>
  <dc:subject/>
  <dc:title>ТЕМА УРОКА                                              «ЧТО ТАКОЕ РЕЛИГИЯ?» </dc:title>
</cp:coreProperties>
</file>